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DAD-BA53-44E9-BA77-0564DE5A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11A-7A1B-4674-8652-B5E23CBA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C53-BAC8-4CE0-B9F9-2F4928B2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A26-3778-4083-8170-D9041797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082-CEE6-4510-B9EF-2AB6877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A9A-2249-49EF-81D3-06846053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D28-42A2-4C1C-AF41-50F446E9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B8E-2343-4E49-BB1F-D214F12E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C31-6D4C-4D6F-BD70-5A55185B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D71-AB8A-4C5B-9C24-69D3559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A4C-4C9A-4F2A-A0E3-F11218C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9AE-3AC4-4181-8DBD-141925B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B4EF-DE9D-49E7-B387-E99EFCE96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36:00Z</dcterms:created>
  <dc:creator> </dc:creator>
  <dc:description/>
  <dc:language>en-US</dc:language>
  <cp:lastModifiedBy> </cp:lastModifiedBy>
  <dcterms:modified xsi:type="dcterms:W3CDTF">2009-02-26T13:36:08Z</dcterms:modified>
  <cp:revision>1</cp:revision>
  <dc:subject/>
  <dc:title>Slide 1</dc:title>
</cp:coreProperties>
</file>